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F5AF-D260-4322-BBF0-3B0A1FEED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1BEE2-06D3-40B2-B658-E27AFC99F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2EDD7-759C-44F2-97FB-7F57DBAD7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4D971-AE5F-420B-9212-AC23DA169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25750-12BD-45E6-9B1A-05A8335A8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79337-EFAA-44E1-979A-44A7387B1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22ED2-CA60-42D0-B42B-43D59E58C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0E378-F031-4251-A7D3-15BC586C9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8DCE2-C8CA-4CB3-95CA-A88DBA934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5F3C3-1D92-42F4-ABD8-5435316CE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54EFA-4400-4B61-8BF1-EAB350D89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72116-31D5-47DA-A12C-6F661967B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52202-BB1F-4A7F-9E3C-B92594484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456A-E882-4D54-9485-2CDA687AB0D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LEGION</cp:lastModifiedBy>
  <dcterms:modified xsi:type="dcterms:W3CDTF">2017-07-03T09:59:15Z</dcterms:modified>
  <cp:revision>38</cp:revision>
  <dc:subject/>
  <dc:title>Slide 1</dc:title>
</cp:coreProperties>
</file>